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75E-FE09-4E3A-AE97-800B62A8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837-D314-40F9-AE05-BFA231B2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C62-E121-4187-A897-8FA62BE9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149-A1A1-43C0-9C99-11C9A081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039-140B-4EF9-ABC3-84F439F2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05B-52A2-44E3-8B63-804D7B98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DD1-FEAA-43E4-B2D7-C4352B75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DC4-95FC-48B9-91A4-9C6A4273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184-A86D-444B-9045-B9380A9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2A5-7587-4B4B-9036-706EC30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0AE-D5DF-4EFC-91AE-06C5C439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C89-9268-4B7A-BAD3-B8E2C11C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3F8B-C117-4486-98A8-EBB63FBFC7E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БОУ СО «Школа – интернат АОП с.Широкий Буера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492280"/>
            <a:ext cx="64404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 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Борьба за научное мировоззр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ница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клас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анова 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Гуськова Н.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-main-pic" descr="Картинка 20 из 42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00040" y="357120"/>
            <a:ext cx="5500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-main-pic" descr="Картинка 26 из 42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-main-pic" descr="Картинка 3 из 5347"/>
          <p:cNvPicPr/>
          <p:nvPr/>
        </p:nvPicPr>
        <p:blipFill>
          <a:blip r:embed="rId1"/>
          <a:stretch/>
        </p:blipFill>
        <p:spPr>
          <a:xfrm>
            <a:off x="785880" y="0"/>
            <a:ext cx="735804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-main-pic" descr="Картинка 7 из 5347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-main-pic" descr="Картинка 77 из 5348"/>
          <p:cNvPicPr/>
          <p:nvPr/>
        </p:nvPicPr>
        <p:blipFill>
          <a:blip r:embed="rId1"/>
          <a:stretch/>
        </p:blipFill>
        <p:spPr>
          <a:xfrm>
            <a:off x="0" y="0"/>
            <a:ext cx="3929040" cy="6429240"/>
          </a:xfrm>
          <a:prstGeom prst="rect">
            <a:avLst/>
          </a:prstGeom>
          <a:ln w="0">
            <a:noFill/>
          </a:ln>
        </p:spPr>
      </p:pic>
      <p:pic>
        <p:nvPicPr>
          <p:cNvPr id="69" name="i-main-pic" descr="Картинка 11 из 5347"/>
          <p:cNvPicPr/>
          <p:nvPr/>
        </p:nvPicPr>
        <p:blipFill>
          <a:blip r:embed="rId2"/>
          <a:stretch/>
        </p:blipFill>
        <p:spPr>
          <a:xfrm>
            <a:off x="3929040" y="857160"/>
            <a:ext cx="52149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300px-Galileo_facing_the_Roman_Inquisition"/>
          <p:cNvPicPr/>
          <p:nvPr/>
        </p:nvPicPr>
        <p:blipFill>
          <a:blip r:embed="rId1"/>
          <a:stretch/>
        </p:blipFill>
        <p:spPr>
          <a:xfrm>
            <a:off x="500040" y="0"/>
            <a:ext cx="8001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Суд инквизиции над Галилео Галилеем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14200" y="35712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А.Сухотин. Превратности научных идей. Москва «Молодая гвардия»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М.И. Блудов. Беседы по физике. - М.:Просвещение,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Б.Г, Володин, В.М. Стригин. Пути в незнаемое. Москва. Советский писатель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А.С. Енохович  и др.; Хрестоматия по физике 9-11 – М.: Просвещение,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Г.Кублицкий. Весь шар земной… Москва « Детская литература»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Ресурсы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840" y="642960"/>
            <a:ext cx="42102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ртина мира – это системное и сложное образование, которое нельзя свести к какому-то одному открыт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чь идет о ряде взаимосвязанных открытий, которые меняют отношение человека к окружающ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4648320" y="1960560"/>
            <a:ext cx="40384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Первые представления о картине ми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28670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571920" y="1599840"/>
            <a:ext cx="5214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едставление о Земле как о центре мирозд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Мир объяснялся умозрительно (у древних не было современных сложных приборов для измерений, современных методов исследования, поэтому они больше выдумывали, изобретал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сканирование0014"/>
          <p:cNvPicPr/>
          <p:nvPr/>
        </p:nvPicPr>
        <p:blipFill>
          <a:blip r:embed="rId2"/>
          <a:stretch/>
        </p:blipFill>
        <p:spPr>
          <a:xfrm>
            <a:off x="714240" y="1674720"/>
            <a:ext cx="3643560" cy="460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сканирование0015"/>
          <p:cNvPicPr/>
          <p:nvPr/>
        </p:nvPicPr>
        <p:blipFill>
          <a:blip r:embed="rId3"/>
          <a:stretch/>
        </p:blipFill>
        <p:spPr>
          <a:xfrm>
            <a:off x="4714920" y="1785960"/>
            <a:ext cx="395604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571680" y="285840"/>
            <a:ext cx="36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лавдий Птолем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572000" y="357120"/>
            <a:ext cx="421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Геоцентрическая система 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b9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142920" y="2143080"/>
            <a:ext cx="5904000" cy="45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k_011"/>
          <p:cNvPicPr/>
          <p:nvPr/>
        </p:nvPicPr>
        <p:blipFill>
          <a:blip r:embed="rId2"/>
          <a:stretch/>
        </p:blipFill>
        <p:spPr>
          <a:xfrm>
            <a:off x="6286680" y="2000160"/>
            <a:ext cx="264312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0" y="0"/>
            <a:ext cx="607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Система мира предложенная Коперником, называется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Monotype Corsiva"/>
              </a:rPr>
              <a:t>гелиоцентрической</a:t>
            </a: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6143760" y="5429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Копе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02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revolutionibus_copernico"/>
          <p:cNvPicPr/>
          <p:nvPr/>
        </p:nvPicPr>
        <p:blipFill>
          <a:blip r:embed="rId1"/>
          <a:stretch/>
        </p:blipFill>
        <p:spPr>
          <a:xfrm>
            <a:off x="0" y="0"/>
            <a:ext cx="4929120" cy="6861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214960" y="20001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Николая Копер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айл:Nicolaus Copernicus Varsovia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500800" y="250020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н остановил Солнце и сдвинул Земл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Портрет"/>
          <p:cNvPicPr/>
          <p:nvPr/>
        </p:nvPicPr>
        <p:blipFill>
          <a:blip r:embed="rId1"/>
          <a:stretch/>
        </p:blipFill>
        <p:spPr>
          <a:xfrm>
            <a:off x="0" y="0"/>
            <a:ext cx="60879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6215040" y="357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48-160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7:26:03Z</dcterms:created>
  <dc:creator>12345</dc:creator>
  <dc:description/>
  <dc:language>en-US</dc:language>
  <cp:lastModifiedBy>user</cp:lastModifiedBy>
  <dcterms:modified xsi:type="dcterms:W3CDTF">2019-11-27T16:08:47Z</dcterms:modified>
  <cp:revision>31</cp:revision>
  <dc:subject/>
  <dc:title>Научная Картина мира  и философия о картине  мира</dc:title>
</cp:coreProperties>
</file>